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900-4CA4-44E1-AA6B-E24E4CC4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5FB-859D-43FB-AFB5-5F8D852D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3AA-00DA-4A64-8605-DAB02EAA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2F1-7E25-4CB3-99B3-45579D28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749-0DDD-4758-94D1-A3C2B98B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E18-61CB-4707-8924-A35E192B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E81-8745-4FDE-AB9D-ECD907EE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335-220E-4759-A032-BBEA34EB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E63-C9EB-4F5E-8A1D-52F800DF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C06-1CA7-4445-9316-7D0F337B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BEA-E7CA-486D-92E8-06FB84AD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076-8173-44DE-8797-92142C55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E0DA-6DFA-456F-8DD8-51B2C72F8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47.xml"/><Relationship Id="rId9" Type="http://schemas.openxmlformats.org/officeDocument/2006/relationships/slide" Target="slide28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0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" Target="slide24.xml"/><Relationship Id="rId17" Type="http://schemas.openxmlformats.org/officeDocument/2006/relationships/slide" Target="slide24.xml"/><Relationship Id="rId18" Type="http://schemas.openxmlformats.org/officeDocument/2006/relationships/slide" Target="slide26.xml"/><Relationship Id="rId19" Type="http://schemas.openxmlformats.org/officeDocument/2006/relationships/slide" Target="slide26.xml"/><Relationship Id="rId20" Type="http://schemas.openxmlformats.org/officeDocument/2006/relationships/slide" Target="slide30.xml"/><Relationship Id="rId21" Type="http://schemas.openxmlformats.org/officeDocument/2006/relationships/slide" Target="slide30.xml"/><Relationship Id="rId22" Type="http://schemas.openxmlformats.org/officeDocument/2006/relationships/slide" Target="slide34.xml"/><Relationship Id="rId23" Type="http://schemas.openxmlformats.org/officeDocument/2006/relationships/slide" Target="slide34.xml"/><Relationship Id="rId24" Type="http://schemas.openxmlformats.org/officeDocument/2006/relationships/slide" Target="slide32.xml"/><Relationship Id="rId25" Type="http://schemas.openxmlformats.org/officeDocument/2006/relationships/slide" Target="slide32.xml"/><Relationship Id="rId26" Type="http://schemas.openxmlformats.org/officeDocument/2006/relationships/slide" Target="slide36.xml"/><Relationship Id="rId27" Type="http://schemas.openxmlformats.org/officeDocument/2006/relationships/slide" Target="slide36.xml"/><Relationship Id="rId28" Type="http://schemas.openxmlformats.org/officeDocument/2006/relationships/slide" Target="slide38.xml"/><Relationship Id="rId29" Type="http://schemas.openxmlformats.org/officeDocument/2006/relationships/slide" Target="slide38.xml"/><Relationship Id="rId30" Type="http://schemas.openxmlformats.org/officeDocument/2006/relationships/slide" Target="slide43.xml"/><Relationship Id="rId31" Type="http://schemas.openxmlformats.org/officeDocument/2006/relationships/slide" Target="slide43.xml"/><Relationship Id="rId3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90"/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" action="ppaction://hlinksldjump"/>
              </a:rPr>
              <a:t>3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91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5" action="ppaction://hlinksldjump"/>
              </a:rPr>
              <a:t>4 p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92"/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5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01"/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7" action="ppaction://hlinksldjump"/>
              </a:rPr>
              <a:t>1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2">
            <a:hlinkClick r:id="rId8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3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9" action="ppaction://hlinksldjump"/>
              </a:rPr>
              <a:t>3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04"/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4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5"/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5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6">
            <a:hlinkClick r:id="rId12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3" action="ppaction://hlinksldjump"/>
              </a:rPr>
              <a:t>1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7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5" action="ppaction://hlinksldjump"/>
              </a:rPr>
              <a:t>2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8">
            <a:hlinkClick r:id="rId16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7" action="ppaction://hlinksldjump"/>
              </a:rPr>
              <a:t>3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9">
            <a:hlinkClick r:id="rId18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9" action="ppaction://hlinksldjump"/>
              </a:rPr>
              <a:t>4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10">
            <a:hlinkClick r:id="rId2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1" action="ppaction://hlinksldjump"/>
              </a:rPr>
              <a:t>5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1">
            <a:hlinkClick r:id="rId2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3" action="ppaction://hlinksldjump"/>
              </a:rPr>
              <a:t>1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2">
            <a:hlinkClick r:id="rId24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5" action="ppaction://hlinksldjump"/>
              </a:rPr>
              <a:t>2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13">
            <a:hlinkClick r:id="rId26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7" action="ppaction://hlinksldjump"/>
              </a:rPr>
              <a:t>3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4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9" action="ppaction://hlinksldjump"/>
              </a:rPr>
              <a:t>4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5">
            <a:hlinkClick r:id="rId3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1" action="ppaction://hlinksldjump"/>
              </a:rPr>
              <a:t>5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7"/>
          <p:cNvSpPr/>
          <p:nvPr/>
        </p:nvSpPr>
        <p:spPr>
          <a:xfrm>
            <a:off x="190512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nis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eric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S. in WW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988560"/>
            <a:ext cx="89614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declaration that the US may use military force to restore internal stability to nations in the Americas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47920" y="1982520"/>
            <a:ext cx="62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d3746"/>
                </a:solidFill>
                <a:latin typeface="Times New Roman"/>
              </a:rPr>
              <a:t>Roosevelt Corollary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12549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US went to war with Spain on this Caribbean island after the USS Maine explode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447920" y="271260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43f1e"/>
                </a:solidFill>
                <a:latin typeface="Times New Roman"/>
              </a:rPr>
              <a:t>Cuba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327560" y="31845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0" y="1129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US went to war with Spain in this group of islands in the Pacific, aided by rebel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-2819520" y="137160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38080" y="1571760"/>
            <a:ext cx="69343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3333cc"/>
                </a:solidFill>
                <a:latin typeface="Chalkboard Bold"/>
              </a:rPr>
              <a:t>Philippines</a:t>
            </a:r>
            <a:endParaRPr b="1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56160" y="31845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0" y="-1810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Skia"/>
              </a:rPr>
              <a:t>Newspapers (led by owners such as William Randolph Hearst and Joseph Pulitzer) that sensationalized stories in order to increase sales became known as   __________ press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914400" y="2197800"/>
            <a:ext cx="7543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ff00"/>
                </a:solidFill>
                <a:latin typeface="Stencil"/>
              </a:rPr>
              <a:t>Yellow</a:t>
            </a:r>
            <a:endParaRPr b="1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143000" y="18367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14400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bel leader Emilio Aquinaldo fought first against Spanish colonizers and then against US forces that occupied his country. Where did he live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21646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43f1e"/>
                </a:solidFill>
                <a:latin typeface="Times New Roman"/>
              </a:rPr>
              <a:t>The Philippines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95280" y="2620800"/>
            <a:ext cx="6324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" y="2540160"/>
            <a:ext cx="8610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288000"/>
            <a:ext cx="8839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US annexed this territory after overthrowing the native queen and landing Marines in the territory to support a new, US-backed government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2182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Congressional action said that the US had the right to intervene in Cuban affairs to protect life, property, and liberty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23880" y="31240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210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he Platt Amendment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96160"/>
            <a:ext cx="6248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upreme Commander of Allied Forces was _____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219320" y="455760"/>
            <a:ext cx="693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French General Ferdinand Foch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143000" y="2412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he Central Powers included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762120" y="-46440"/>
            <a:ext cx="7772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Germany, Austria-Hungary, and the Ottoman Empire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475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British Ocean Liner/Passenger Ship that was sunk by German U-Boats on May 7, 1915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523880" y="1919160"/>
            <a:ext cx="609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The Lusitania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403880" y="29559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9723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Great Britain, France and (Russia --&gt;until 1917) were members of the ______________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 flipV="1">
            <a:off x="457200" y="5181120"/>
            <a:ext cx="10666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 flipH="1">
            <a:off x="7238880" y="5029200"/>
            <a:ext cx="1447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295280" y="1935000"/>
            <a:ext cx="701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000000"/>
                </a:solidFill>
                <a:uFillTx/>
                <a:latin typeface="Times New Roman"/>
              </a:rPr>
              <a:t>Allied Force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447920" y="274284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475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is peace treaty, ending WWI, imposed harsh punishments on the countries that lost the war, particularly Germany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447920" y="1251000"/>
            <a:ext cx="624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Snell Roundhand Black"/>
              </a:rPr>
              <a:t>The Treaty of Versaille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43020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he Commanding General of U.S Expeditionary Forces in Europe during WWI was _______________?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09480" y="455760"/>
            <a:ext cx="7620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General “Blackjack” 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John Pershing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2257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At the beginning of WWI the U.S. was a ______ nation.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265068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5392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The United States declared war on Germany during this year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__________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2590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1917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4592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 telegram from the German Foreign Minister requesting that Mexico declare war on the U.S. in 1917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15282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Imperialism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7920" y="2835360"/>
            <a:ext cx="6248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7326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US gained this territory in the Caribbean; citizens there are ineligible to vote for members of  Congress or the  US President today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19191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he Zimmerman Telegram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1950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Sedition Act said that…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1144080"/>
            <a:ext cx="77724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First Amendment Right to “Freedom of Speech” could be curbed during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artime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53244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ney paid by a defeated country for damages to or expenditures made to another country as a result of hostilities or war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295280" y="29412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11abb"/>
                </a:solidFill>
                <a:latin typeface="Times New Roman"/>
              </a:rPr>
              <a:t>Reparation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6080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resident Wilson wanted to create this international organization to help avoid future conflict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8640" y="2650680"/>
            <a:ext cx="918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League of Nation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447920" y="32796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ntense pride in ones Countr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-2362320"/>
            <a:ext cx="7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90360" y="1981080"/>
            <a:ext cx="7467480" cy="4114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3716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4098960" y="31845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25426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d3746"/>
                </a:solidFill>
                <a:latin typeface="Times New Roman"/>
              </a:rPr>
              <a:t>Nationalism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79200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skerville"/>
              </a:rPr>
              <a:t>information used to promote or publicize a particular political cause or point of view</a:t>
            </a:r>
            <a:r>
              <a:rPr b="1" lang="en-US" sz="9600" spc="-1" strike="noStrike">
                <a:solidFill>
                  <a:srgbClr val="000000"/>
                </a:solidFill>
                <a:latin typeface="Baskerville"/>
              </a:rPr>
              <a:t> 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447920" y="2010960"/>
            <a:ext cx="62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Puerto Rico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377360" y="2650680"/>
            <a:ext cx="648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99"/>
                </a:solidFill>
                <a:latin typeface="Times New Roman"/>
              </a:rPr>
              <a:t>propaganda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"/>
              </a:rPr>
              <a:t>a policy of extending a country's power and influence through diplomacy or military force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530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fter requesting a lease in this country’s territory to build a canal and being denied, the US sent warships to intimidate and block this country from allowing its rebel province to become independen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33520" y="1341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d3746"/>
                </a:solidFill>
                <a:latin typeface="Times New Roman"/>
              </a:rPr>
              <a:t>Colombia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0" y="129024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use of a country’s financial power to extend its international influence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47920" y="1281240"/>
            <a:ext cx="624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99"/>
                </a:solidFill>
                <a:latin typeface="Times New Roman"/>
              </a:rPr>
              <a:t>Dollar Diplomacy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99"/>
                </a:solidFill>
                <a:latin typeface="Times New Roman"/>
              </a:rPr>
              <a:t>$$$$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Susan Collins; Eleanor Savko</dc:creator>
  <dc:description/>
  <dc:language>en-US</dc:language>
  <cp:lastModifiedBy>YHS Teacher</cp:lastModifiedBy>
  <dcterms:modified xsi:type="dcterms:W3CDTF">2009-04-03T01:33:33Z</dcterms:modified>
  <cp:revision>159</cp:revision>
  <dc:subject>Math 5A</dc:subject>
  <dc:title>Math Jeopardy</dc:title>
</cp:coreProperties>
</file>